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BA34-A39B-49F6-A68D-F76D3D80D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0829A-53E4-4701-84F1-EDC210CA5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9A5D8-F0F7-42DF-AA22-83A02BE53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CA39-FAD5-47B1-A11F-141CF2612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8C0F9-065C-41DE-A0D9-05E6B3139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B1826-7A09-479D-BD90-885B61FD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629-434F-4D8B-BE70-576487FED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5D9-BA5F-4969-9DEC-2F8B2914F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CAAD-74A6-41AA-A8C0-B0C036D20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950E-ECFA-4825-8FF3-76AD81035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5F1C9-4A60-42F3-AB0E-9D0AC682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5912-700E-4DE1-8935-F99F971D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671D-6061-4B86-91A9-B05BB967C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354A6-FDCD-44CF-9ADD-D5F46933F7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1066680" y="838080"/>
            <a:ext cx="7010640" cy="518184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3048120" y="31240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6"/>
          <p:cNvSpPr/>
          <p:nvPr/>
        </p:nvSpPr>
        <p:spPr>
          <a:xfrm>
            <a:off x="2133720" y="4495680"/>
            <a:ext cx="495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581280" y="259092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200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16002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6095880" y="62485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eck and McKe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traight Connector 14"/>
          <p:cNvSpPr/>
          <p:nvPr/>
        </p:nvSpPr>
        <p:spPr>
          <a:xfrm flipH="1">
            <a:off x="4570560" y="3125880"/>
            <a:ext cx="288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traight Connector 17"/>
          <p:cNvSpPr/>
          <p:nvPr/>
        </p:nvSpPr>
        <p:spPr>
          <a:xfrm flipH="1">
            <a:off x="3503160" y="4497480"/>
            <a:ext cx="324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traight Connector 19"/>
          <p:cNvSpPr/>
          <p:nvPr/>
        </p:nvSpPr>
        <p:spPr>
          <a:xfrm flipH="1">
            <a:off x="5865480" y="4497480"/>
            <a:ext cx="3240" cy="1523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2590920" y="40384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0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4952880" y="40384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10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96252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6172200" y="556272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alibri"/>
              </a:rPr>
              <a:t>50 Poi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TextBox 27" descr=""/>
          <p:cNvPicPr/>
          <p:nvPr/>
        </p:nvPicPr>
        <p:blipFill>
          <a:blip r:embed="rId1"/>
          <a:stretch/>
        </p:blipFill>
        <p:spPr>
          <a:xfrm>
            <a:off x="-249120" y="291960"/>
            <a:ext cx="4565520" cy="5780160"/>
          </a:xfrm>
          <a:prstGeom prst="rect">
            <a:avLst/>
          </a:prstGeom>
          <a:ln w="0">
            <a:noFill/>
          </a:ln>
        </p:spPr>
      </p:pic>
      <p:pic>
        <p:nvPicPr>
          <p:cNvPr id="57" name="Rectangle 28" descr=""/>
          <p:cNvPicPr/>
          <p:nvPr/>
        </p:nvPicPr>
        <p:blipFill>
          <a:blip r:embed="rId2"/>
          <a:stretch/>
        </p:blipFill>
        <p:spPr>
          <a:xfrm>
            <a:off x="4718160" y="426960"/>
            <a:ext cx="402912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5T18:44:15Z</dcterms:created>
  <dc:creator>Kelli Harrell</dc:creator>
  <dc:description/>
  <dc:language>en-US</dc:language>
  <cp:lastModifiedBy>Ana Flyod</cp:lastModifiedBy>
  <dcterms:modified xsi:type="dcterms:W3CDTF">2010-05-04T12:30:25Z</dcterms:modified>
  <cp:revision>5</cp:revision>
  <dc:subject/>
  <dc:title>Slide 1</dc:title>
</cp:coreProperties>
</file>